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01F-F831-44A1-B247-25AA42405F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9C6-6FCB-4563-8FAD-60D3189A8E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339-BBF7-46CF-995A-061E65AE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5B6-AB92-4F4D-ACBF-01A032E9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057-3277-49F9-BE94-2227B6A0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36F-9FE9-442C-A73F-D2035FCA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E2E-CBFD-4FD0-9831-BE9B8B64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707-C41F-4FCE-A455-BE5410A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B3B-DC92-437A-AB77-4B0D8CA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E4B-82C0-42AE-A8A6-82B56497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E13-23CD-4AB8-AB29-3729FF62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43A-7945-466D-8F11-0916BA9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0EE-8E0F-4730-8318-DBE035C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5E7-5D70-46B7-A715-1E9A4EF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375B-4C89-4DF6-9836-092AD48439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8280" y="347400"/>
            <a:ext cx="415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8280" y="1595520"/>
            <a:ext cx="46386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nisem imuna na to, kar hoče č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Kastelčevo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5:10:24Z</cp:lastPrinted>
  <dcterms:modified xsi:type="dcterms:W3CDTF">2014-10-02T05:18:05Z</dcterms:modified>
  <cp:revision>60</cp:revision>
  <dc:subject/>
  <dc:title>TITLE</dc:title>
</cp:coreProperties>
</file>